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343080" indent="-34308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11280" y="6294600"/>
            <a:ext cx="343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2: Privacy and Pers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0C68-26D9-4608-B719-5B767F968DDE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4</a:t>
            </a:r>
            <a:r>
              <a:rPr b="0" lang="en-US" sz="1800" spc="-1" strike="noStrike" baseline="30000">
                <a:solidFill>
                  <a:srgbClr val="993300"/>
                </a:solidFill>
                <a:latin typeface="Palatino"/>
              </a:rPr>
              <a:t>th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Amendmen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pectation of Privac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’s rights are limit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must have probable cause to search private premises or seize docum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Challeng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sensing and surveillance technologies enable the government access to private premises without physical ent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technologies provide the government with access to huge amounts of personal data in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urts allow some searches and seizures of computers without search warra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s technology strengthened or weakened the spirit of the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athering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arran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mbership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nge-of-address for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71500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ways in which you have contributed to consumer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miting Collection, Use, Sharing, and Sale of Personal Data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s can take measures to restrict the use of their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published,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68580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limit consumer information gathered about yo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ing: Using Consumer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ding/buying customer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in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ss-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pam (unsolicited e-mail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15000"/>
            <a:ext cx="6934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are children affected by marketers using consumer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redit Bureau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s of consumer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valuate credit risk of applica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CRA (Fair Credit Reporting Act)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f-regulated by privacy princip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f you are denied credit, what are your rights based on the FC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cial Security Numbers (SSNs)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ppear i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mployer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chool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repor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 applic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ny other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715000"/>
            <a:ext cx="5029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are the risks of using SSNs as identifi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card could contain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dres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phone number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hoto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S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15000"/>
            <a:ext cx="6782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other personal information should a national ID card cont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system could allow access to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dic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ax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itizen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histo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the benefits of a national ID system greater than the ri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ersonal Health and Medic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can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story of substance ab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eatment for sexually transmitted dise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tent of psychiatric help receiv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y suicide attempt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agnosis of diseases (diabetes, angina, cancer, etc.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prescribed medici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715000"/>
            <a:ext cx="655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would marketers want access to your medic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ublic Record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vailable in paper form and/or onlin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ankrupt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res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riage-license applic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vorce proceeding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perty owner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ary (if employed by state or federal governmen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ills and Tru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71500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access to public records be controll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and Person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he Impact of Computer Technolog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g Brother is Watching You”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sumer Inform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re Privacy Risk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Education, Technology, and Market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Law and Regul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duc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st include awareness of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wor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is being us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risks brought on by the technolog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o limit unwanted use of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pplicable state and federal laws and regul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do you limit unwanted use of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echnolog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nhance privacy using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okie disabl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pt-in/opt-out op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ous Web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3P (Platform for Privacy Preference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‘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od’ passw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715000"/>
            <a:ext cx="594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privacy-enhancing technology do you use regular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 Respon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rkets can protect your privacy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ing trusted third par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ing to established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consumer information directly from the consum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veloping and selling privacy-enhancing technologies and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ve you read the privacy policies at Web sites you frequ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hilosophical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muel Warren &amp; Louis Brandei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dividuals have the right to prohibit publication of personal facts and photo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Judith Jarvis Thomps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distinct right to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rights result from rights to our property, body,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ransac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nsactions have two parties, often with conflicting preferences about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41008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rights to information about transactions between two parties be assign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sting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-market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as equ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uth in information gathe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reliance on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of speech and commer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sumer-Protection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differentl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 stringent consent requirements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limitations on secondary uses of information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egal restrictions on consumer profil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the privacy of consumer transactions be regu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asic Legal Framework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nforce agreements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blish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t defaults for situations not in contrac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ing Specific Consent polici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e to informed consumer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pt-in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egal 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ffectiveness, direct and hidden costs, and any loss of services or inconven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562720"/>
            <a:ext cx="73152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 situation where you exchanged personal information for some benef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wnership of personal data. Can an individual ow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acts (e.g. marriage license in public records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information (e.g. your date of birth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dom of speec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hibiting communication of information may violate the 1</a:t>
            </a:r>
            <a:r>
              <a:rPr b="0" lang="en-US" sz="1400" spc="-1" strike="noStrike" baseline="30000">
                <a:solidFill>
                  <a:srgbClr val="333399"/>
                </a:solidFill>
                <a:latin typeface="Palatino"/>
              </a:rPr>
              <a:t>st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Amend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en does protecting privacy conflict with freedom of spee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U (European Union) Privacy Regul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collection of personal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ust be up-to-date and destroyed when no longer need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ent for sharing data is requir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nsitive data (e.g. religion) can only be provided with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tify consumers about the collection and intended purpose of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stricted access and sharing of criminal convi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15000"/>
            <a:ext cx="5181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an the EU’s privacy regulations work in the 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not needed for the invasion of privacy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simply make new threats possible and old threats more potent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can mean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intrus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trol of information about oneself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nvisible Information Gather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tellite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800- or 900-number ca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oyal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-tracking data; cook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er-to-peer monito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15000"/>
            <a:ext cx="6400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invisible information gathering about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ary U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information for a purpose other than the one for which it was obtained. A few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e (or trade) of consumer information to other busines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check by a prospective employ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y use of consumer datab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543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occasion when a secondary use of your personal information was m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Match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bining and comparing information from more than one databas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aring of government agencies’ databases to detect fraud by recipients of government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ing consumer dossiers from various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computer matching that has appeared in the n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ofil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data in computer files to predict likely behaviors of peopl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 engage in profiling to determine consumer propensity toward a product or servi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ies use profiling to create descriptions of possible terror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62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ight profiling be used with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onitoring and Tr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PS (global positioning system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ell-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lackboxes in automobi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 wireless applian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impact of GPS-equipped childrens’ wrist wat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ederal Government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ligibility for jobs and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uce wast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c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aw enfor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Act of 1974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Matching and Privacy Protection Act of 1988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ich government databases contains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Sara Mayers</cp:lastModifiedBy>
  <dcterms:modified xsi:type="dcterms:W3CDTF">2003-06-30T23:24:57Z</dcterms:modified>
  <cp:revision>137</cp:revision>
  <dc:subject/>
  <dc:title>Privacy and Personal Information</dc:title>
</cp:coreProperties>
</file>